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D57-50F3-4734-A4FB-ACDE5436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DF1-44A1-46E9-BE93-5A92646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1E3-8380-4D00-AEB4-0504D0D5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BE2-09BF-4D7F-88AA-8192D744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ABC-DA32-4DFE-B097-5E8E0BD6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981-80E3-4818-84C9-D6F9560B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97A-4F2E-4FE1-BFA8-8F683425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6D5-54B2-46F9-94F7-3D10E0F6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654-3DF8-477F-A19D-F6CA468B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E01-3650-48C8-A828-09491261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26E-A8C6-434B-8D77-C2FE9F78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7ED-C793-475C-ACBA-2D9A8AD6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9803-8D6E-4A19-AC39-EBF5E6030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08880" y="101520"/>
            <a:ext cx="2413080" cy="234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2280" y="2693520"/>
            <a:ext cx="985536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WE’LL DO IN YEAR ON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pt and implement a </a:t>
            </a:r>
            <a:r>
              <a:rPr b="0" lang="en-US" sz="2600" spc="-1" strike="noStrike">
                <a:solidFill>
                  <a:srgbClr val="7878de"/>
                </a:solidFill>
                <a:latin typeface="Arial"/>
              </a:rPr>
              <a:t>mastery-based assess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 that is flexible and transparent enough for all the major constituents (students, parents, teachers, administration) to use effective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9520" y="82440"/>
            <a:ext cx="7015320" cy="253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4720680"/>
            <a:ext cx="9772560" cy="19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Y WE’LL DO THI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 create a more precise picture of student learning that recognizes students' different needs, specific strengths and weakne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 identify skills to target across the curriculum, including study skills, critical thinking, literacy and character/SEL compon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 give students more ownership over their edu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0160" y="4162320"/>
            <a:ext cx="2946240" cy="322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01160" y="-360"/>
            <a:ext cx="97506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WE’LL DO IN YEAR TWO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esign the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school schedul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be flexible enough to encompass the needs &amp; learning styles of different learners as well as to provide the common planning time staff will need to sustain these different approach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65320" y="3485160"/>
            <a:ext cx="68914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Y WE’LL DO THI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adjust our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chedul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best support students’ individual learning nee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create a more precise picture of student learning with a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chedul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at allows for tailoring of education for individual/groups of stud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use our Year 1 successes as a launching pad for figuring out how to successfully structure a student's day based on his/her learning profi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